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D9B2-E661-4678-A79D-D64B73A9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15CE-C1B7-4FD2-9AF3-B2B79459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4BC-60DF-45E1-BC6F-39F86B911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E11-02CC-4E86-9AAB-88D637F1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285B-163E-4D7B-946B-CA78F469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4F0-5238-44B9-892E-A4544DE5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24EA-7774-4569-B211-7CFD0EDD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55E-2AC2-4463-B7E7-7FDDF76A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D637-3E98-45A1-BC7D-484B1D0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2CA9-6405-4B7A-A065-29969D27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9D5-95A3-43C4-A3D0-FE781CEB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1311-7A48-48EA-8ED5-96CA32F8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9A00-B8C9-4AD0-8159-E4B7B7887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3673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720" y="8481960"/>
            <a:ext cx="617220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wozdanie z wykonania budżet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Ć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9360" y="1281240"/>
            <a:ext cx="58323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00280" y="-360"/>
            <a:ext cx="367344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8697960"/>
            <a:ext cx="6172200" cy="12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awozdanie z wykonania budżetu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ZĘŚĆ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49360" y="1281240"/>
            <a:ext cx="583236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2:39:07Z</dcterms:created>
  <dc:creator>amatuszewska</dc:creator>
  <dc:description/>
  <dc:language>en-US</dc:language>
  <cp:lastModifiedBy>amatuszewska</cp:lastModifiedBy>
  <dcterms:modified xsi:type="dcterms:W3CDTF">2007-03-19T12:16:57Z</dcterms:modified>
  <cp:revision>7</cp:revision>
  <dc:subject/>
  <dc:title>Warszawa</dc:title>
</cp:coreProperties>
</file>